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B08E-EA04-4D4E-BC80-599A65D2F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FF41-7EC9-4147-AFAC-AB7DE22F5A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AB5A-B044-4745-8C0C-C5E45C6A52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C543-93EF-4EAF-87AF-976613CDA8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EC94-9031-40F9-9079-0E373C528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A058-833B-43EF-8524-734A041C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A38F-50EF-42E3-9E30-8F6BAB7DB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8D45-C3EB-4927-B30A-6519A6C38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61D7-F4E2-4181-BD45-9B3DA335E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6EFB-25C2-40F3-907C-EB24F9EE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A13F-F734-4DE2-9C56-2865AAD5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ABB8-1D87-48AD-9281-79635F21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2FE3-0BCB-46E0-83B0-7F6068E9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F855-2DD4-43B4-A2F8-CAE2FDA7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E929-3A0F-4A2A-B1AD-A55B0CFA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5FF2-EE70-4B4D-B491-3425282B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F69B-0DDB-4E0D-B583-3C348242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A248-FD51-4F3B-8FB0-63D03E58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5BC1-2A00-4065-A889-DE6A64A4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4EF3-4A67-48F8-BB9E-B99AF125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A742-428D-48E9-91C9-8D79E0D7F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15BCA-6BDE-4C7D-BE58-CFC195A5E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5BCDA-936A-46B4-8307-F59E2453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BE0C3-B067-4451-94AE-E8301E82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09DA4-8685-454A-A011-75CEBBC6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1FAE9-2D7C-49C7-B5AF-2B8A8156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58FC-8EF8-4591-A379-AA9A435C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63B8F-CC1D-404D-B460-11152695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1FD74-73F7-4C3E-80F7-8FD37B34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7D617-954B-466F-8DAA-383C9758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C0524-1E49-4E27-B56B-3272A620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20415-51D0-47DB-959D-7CCD1730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F28DC-8FBD-46E9-9754-B5C54FC14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AB71E-8189-4556-ADA9-56CE7CC61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074FD-DB94-4E31-9C34-35819BF98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EFD52-A144-4BC1-A494-8B7220A3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678D5-BE32-4168-8AB4-7474A2DE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C0A5-AE66-4353-B421-CF1E4433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27E04-9C73-43C4-87D1-E6D991A7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67674-49A2-49D7-A538-F6CD4E20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C4534-7E06-455F-9F0F-BE9823D2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E9551-5D2D-4CC1-84CD-DD4F2860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57B6E-0BB2-461C-9897-1ED281F2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34781-5EA8-41FC-896C-1F7A0A92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A2370-B71C-4FC3-B585-6C5C7C13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E57FE-4CD2-4251-BD55-D056DE17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968FB-0564-4AF2-B862-55BA26774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55AEA-3A91-4FBC-972D-D173A56AF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CAA5-B57C-475A-9385-06B0D513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5D099-5A2C-49D9-8A3E-E7A702B4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A3883-E3A5-493C-AB12-80049042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6D8AE-835E-4A11-B00D-6E2BD869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1E438-DD61-41DF-9D0A-74E5A29D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33275-1A07-4228-BAFA-6E69FAA7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796B3-E412-4043-B5C9-C0798F46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BC1F2-0469-4E1C-88ED-0B2CA37F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8D5D8-6258-4968-97FD-855956B1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A1E41-2A50-46D7-A930-30A4D038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C58E3-A32E-465B-9996-29677EA9B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F2AB-7E8E-4208-91E6-5BD7C812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3F9F5-4813-475C-BBE5-DF55BE8E6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6BAEE-1925-4CDF-A707-7B9B449D3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7403F-8CF4-4DE1-8BE6-3B4D1710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6214E-8540-4C19-86D9-01B967B4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91C15-DC15-4950-86D6-3E396FA2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FB930-69E9-40D3-8791-055533C4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0C08E-CEB3-4644-A152-21F1244E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6378A-F531-40D2-8705-B50DB9E6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56FF0-D2B0-4911-BB74-87D32E3F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42B5D-9EAE-4C2C-9587-F6FEFA0D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4BAC-F12A-4D32-BECC-C1831934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FD1E3-7391-40B9-B167-8C79750A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501EA-DF44-4AFD-95F8-CB887ED5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91BA5-2DA8-4832-8FC8-FBB68DBC0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3073-8425-4300-9EE1-88862264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E0F8-51A6-4A81-92CF-AC16B477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622C-720D-4DE4-9A8D-FEE6D3AB700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03D9-3F56-4DF4-AE97-A5542C3F99E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281D-9350-449E-80D3-8B34799C995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BBC8-D7D0-49EE-9D41-AA51C6C7386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D60F-1A27-4FF3-A7E4-F1A722D193E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541A-023B-46F2-BD35-2760FE1BB51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2.jpeg"/><Relationship Id="rId6" Type="http://schemas.openxmlformats.org/officeDocument/2006/relationships/hyperlink" Target="http://us.123rf.com/400wm/400/400/newsfocus1/newsfocus11003/newsfocus1100300119/6890299-bembridge-england--circa-1974--a-couple-in-their-eighties-pose-in-the-kitchen-of-their-home.jpg" TargetMode="External"/><Relationship Id="rId7" Type="http://schemas.openxmlformats.org/officeDocument/2006/relationships/image" Target="../media/image3.jpeg"/><Relationship Id="rId8" Type="http://schemas.openxmlformats.org/officeDocument/2006/relationships/hyperlink" Target="http://us.123rf.com/400wm/400/400/newsfocus1/newsfocus11003/newsfocus1100300119/6890299-bembridge-england--circa-1974--a-couple-in-their-eighties-pose-in-the-kitchen-of-their-home.jpg" TargetMode="External"/><Relationship Id="rId9" Type="http://schemas.openxmlformats.org/officeDocument/2006/relationships/image" Target="../media/image3.jpeg"/><Relationship Id="rId10" Type="http://schemas.openxmlformats.org/officeDocument/2006/relationships/hyperlink" Target="http://us.123rf.com/400wm/400/400/newsfocus1/newsfocus11003/newsfocus1100300119/6890299-bembridge-england--circa-1974--a-couple-in-their-eighties-pose-in-the-kitchen-of-their-home.jpg" TargetMode="External"/><Relationship Id="rId11" Type="http://schemas.openxmlformats.org/officeDocument/2006/relationships/image" Target="../media/image3.jpeg"/><Relationship Id="rId12" Type="http://schemas.openxmlformats.org/officeDocument/2006/relationships/hyperlink" Target="http://us.123rf.com/400wm/400/400/newsfocus1/newsfocus11003/newsfocus1100300119/6890299-bembridge-england--circa-1974--a-couple-in-their-eighties-pose-in-the-kitchen-of-their-home.jpg" TargetMode="External"/><Relationship Id="rId13" Type="http://schemas.openxmlformats.org/officeDocument/2006/relationships/image" Target="../media/image3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7.jpeg"/><Relationship Id="rId20" Type="http://schemas.openxmlformats.org/officeDocument/2006/relationships/slideLayout" Target="../slideLayouts/slideLayout13.xml"/><Relationship Id="rId2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" Target="slide1.xml"/><Relationship Id="rId5" Type="http://schemas.openxmlformats.org/officeDocument/2006/relationships/slide" Target="slide3.xml"/><Relationship Id="rId6" Type="http://schemas.openxmlformats.org/officeDocument/2006/relationships/hyperlink" Target="http://www.google.com/imgres?imgurl=http://www.fmschmitt.com/travels/Hawaii/Hawaiian-History/20070112_hawaii_oahu_iolani_palace_04.JPG&amp;imgrefurl=http://www.fmschmitt.com/travels/Hawaii/Hawaiian-History/index.html&amp;usg=__64IUcSiBvGFdV3SEXYujKFJwhnM=&amp;h=480&amp;w=640&amp;sz=90&amp;hl=en&amp;start=3&amp;zoom=0&amp;itbs=1&amp;tbnid=7JcqG8d59k_2uM:&amp;tbnh=103&amp;tbnw=137&amp;prev=/search%3Fq%3Drich%2Bwhite%2Bhouses%26hl%3Den%26sa%3DG%26as_st%3Dy%26tbs%3Diur:f%26tbm%3Disch&amp;ei=whvATfqFIsfw0gG9gqjuBA" TargetMode="External"/><Relationship Id="rId7" Type="http://schemas.openxmlformats.org/officeDocument/2006/relationships/image" Target="../media/image9.jpeg"/><Relationship Id="rId8" Type="http://schemas.openxmlformats.org/officeDocument/2006/relationships/hyperlink" Target="http://us.123rf.com/400wm/400/400/newsfocus1/newsfocus11003/newsfocus1100300119/6890299-bembridge-england--circa-1974--a-couple-in-their-eighties-pose-in-the-kitchen-of-their-home.jpg" TargetMode="External"/><Relationship Id="rId9" Type="http://schemas.openxmlformats.org/officeDocument/2006/relationships/image" Target="../media/image3.jpeg"/><Relationship Id="rId10" Type="http://schemas.openxmlformats.org/officeDocument/2006/relationships/hyperlink" Target="http://us.123rf.com/400wm/400/400/newsfocus1/newsfocus11003/newsfocus1100300119/6890299-bembridge-england--circa-1974--a-couple-in-their-eighties-pose-in-the-kitchen-of-their-home.jpg" TargetMode="External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image" Target="../media/image10.png"/><Relationship Id="rId5" Type="http://schemas.openxmlformats.org/officeDocument/2006/relationships/image" Target="../media/image9.jpeg"/><Relationship Id="rId6" Type="http://schemas.openxmlformats.org/officeDocument/2006/relationships/image" Target="../media/image11.jpeg"/><Relationship Id="rId7" Type="http://schemas.openxmlformats.org/officeDocument/2006/relationships/hyperlink" Target="http://www.google.com/imgres?imgurl=http://www.fmschmitt.com/travels/Hawaii/Hawaiian-History/20070112_hawaii_oahu_iolani_palace_04.JPG&amp;imgrefurl=http://www.fmschmitt.com/travels/Hawaii/Hawaiian-History/index.html&amp;usg=__64IUcSiBvGFdV3SEXYujKFJwhnM=&amp;h=480&amp;w=640&amp;sz=90&amp;hl=en&amp;start=3&amp;zoom=0&amp;itbs=1&amp;tbnid=7JcqG8d59k_2uM:&amp;tbnh=103&amp;tbnw=137&amp;prev=/search%3Fq%3Drich%2Bwhite%2Bhouses%26hl%3Den%26sa%3DG%26as_st%3Dy%26tbs%3Diur:f%26tbm%3Disch&amp;ei=whvATfqFIsfw0gG9gqjuBA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us.123rf.com/400wm/400/400/newsfocus1/newsfocus11003/newsfocus1100300119/6890299-bembridge-england--circa-1974--a-couple-in-their-eighties-pose-in-the-kitchen-of-their-home.jpg" TargetMode="External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5.jpeg"/><Relationship Id="rId14" Type="http://schemas.openxmlformats.org/officeDocument/2006/relationships/image" Target="../media/image12.jpeg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1"/>
          <p:cNvSpPr/>
          <p:nvPr/>
        </p:nvSpPr>
        <p:spPr>
          <a:xfrm>
            <a:off x="0" y="304920"/>
            <a:ext cx="9144000" cy="99036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Rectangl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1384560" cy="3970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2057400" y="609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"/>
              </a:rPr>
              <a:t>Elihu Lockto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with his wife and two slave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13"/>
          <p:cNvSpPr/>
          <p:nvPr/>
        </p:nvSpPr>
        <p:spPr>
          <a:xfrm>
            <a:off x="6324480" y="0"/>
            <a:ext cx="17528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"/>
              </a:rPr>
              <a:t>Elihu Lock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8001000" y="0"/>
            <a:ext cx="114300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Elihu Lockton (5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152280" y="26668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d Elihu Lockton a messag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23">
            <a:hlinkClick r:id="rId3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24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29"/>
          <p:cNvSpPr/>
          <p:nvPr/>
        </p:nvSpPr>
        <p:spPr>
          <a:xfrm>
            <a:off x="2209680" y="1905120"/>
            <a:ext cx="4953240" cy="27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34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YALISTS ARE  #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23, 1746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limen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testan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, Englan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53"/>
          <p:cNvSpPr/>
          <p:nvPr/>
        </p:nvSpPr>
        <p:spPr>
          <a:xfrm>
            <a:off x="685800" y="6643800"/>
            <a:ext cx="533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54"/>
          <p:cNvSpPr/>
          <p:nvPr/>
        </p:nvSpPr>
        <p:spPr>
          <a:xfrm>
            <a:off x="2590920" y="25146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hu Lockt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y aunt house Lady Seymour house just caught on fire!!! Hope she is alright :/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iday, September 27,1776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67"/>
          <p:cNvSpPr/>
          <p:nvPr/>
        </p:nvSpPr>
        <p:spPr>
          <a:xfrm>
            <a:off x="2590920" y="30481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ay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hat meeting we just had a couple days ago was great. Can’t wait to see our plan work out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esday, April  5, 1776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e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think that the slaves aren’t use to it yet! The younger one is possessed and we should get rid of her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turday, April 2, 1776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hu Lockton 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ent out for an evening with Anne Lockton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dnesday, May29, 1776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hu Lockt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I just bought two Jamaican slaves form Mr. Roberts!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nday, May 27, 1776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56"/>
          <p:cNvSpPr/>
          <p:nvPr/>
        </p:nvSpPr>
        <p:spPr>
          <a:xfrm>
            <a:off x="4098240" y="50734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102" descr="http://www.awise.org/files/productsimages/BS_C/1023.jpg"/>
          <p:cNvPicPr/>
          <p:nvPr/>
        </p:nvPicPr>
        <p:blipFill>
          <a:blip r:embed="rId5"/>
          <a:stretch/>
        </p:blipFill>
        <p:spPr>
          <a:xfrm>
            <a:off x="152280" y="5334120"/>
            <a:ext cx="320760" cy="53316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48"/>
          <p:cNvSpPr/>
          <p:nvPr/>
        </p:nvSpPr>
        <p:spPr>
          <a:xfrm>
            <a:off x="2514600" y="3124080"/>
            <a:ext cx="47242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obert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y,how is Isabel and Ruth doing? I was planning on coming down to see them but something has popped up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orry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ursday, April7, 1776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45" descr="See full 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685800"/>
            <a:ext cx="1390680" cy="137160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8"/>
          <p:cNvSpPr/>
          <p:nvPr/>
        </p:nvSpPr>
        <p:spPr>
          <a:xfrm>
            <a:off x="0" y="58672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ne Lockto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45" descr="See full size im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905120" y="2514600"/>
            <a:ext cx="600120" cy="4604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5" descr="See full size image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905120" y="5181480"/>
            <a:ext cx="600120" cy="4604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5" descr="See full size imag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905120" y="5791320"/>
            <a:ext cx="600120" cy="4600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02" descr="http://www.awise.org/files/productsimages/BS_C/1023.jpg"/>
          <p:cNvPicPr/>
          <p:nvPr/>
        </p:nvPicPr>
        <p:blipFill>
          <a:blip r:embed="rId14"/>
          <a:stretch/>
        </p:blipFill>
        <p:spPr>
          <a:xfrm>
            <a:off x="1981080" y="4495680"/>
            <a:ext cx="457200" cy="609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0" descr="T:\elizabeth and alysa\images[1].jpg"/>
          <p:cNvPicPr/>
          <p:nvPr/>
        </p:nvPicPr>
        <p:blipFill>
          <a:blip r:embed="rId15"/>
          <a:stretch/>
        </p:blipFill>
        <p:spPr>
          <a:xfrm>
            <a:off x="1981080" y="3809880"/>
            <a:ext cx="462240" cy="6289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0" descr="T:\elizabeth and alysa\images[1].jpg"/>
          <p:cNvPicPr/>
          <p:nvPr/>
        </p:nvPicPr>
        <p:blipFill>
          <a:blip r:embed="rId16"/>
          <a:stretch/>
        </p:blipFill>
        <p:spPr>
          <a:xfrm>
            <a:off x="914400" y="5334120"/>
            <a:ext cx="380880" cy="519120"/>
          </a:xfrm>
          <a:prstGeom prst="rect">
            <a:avLst/>
          </a:prstGeom>
          <a:ln w="0">
            <a:noFill/>
          </a:ln>
        </p:spPr>
      </p:pic>
      <p:sp>
        <p:nvSpPr>
          <p:cNvPr id="310" name="TextBox 52"/>
          <p:cNvSpPr/>
          <p:nvPr/>
        </p:nvSpPr>
        <p:spPr>
          <a:xfrm>
            <a:off x="914400" y="58672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Mayo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51" descr="T:\elizabeth and alysa\images[11].jpg"/>
          <p:cNvPicPr/>
          <p:nvPr/>
        </p:nvPicPr>
        <p:blipFill>
          <a:blip r:embed="rId17"/>
          <a:stretch/>
        </p:blipFill>
        <p:spPr>
          <a:xfrm>
            <a:off x="1905120" y="3048120"/>
            <a:ext cx="560160" cy="5331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51" descr="T:\elizabeth and alysa\images[11].jpg"/>
          <p:cNvPicPr/>
          <p:nvPr/>
        </p:nvPicPr>
        <p:blipFill>
          <a:blip r:embed="rId18"/>
          <a:stretch/>
        </p:blipFill>
        <p:spPr>
          <a:xfrm>
            <a:off x="152280" y="6095880"/>
            <a:ext cx="400320" cy="381240"/>
          </a:xfrm>
          <a:prstGeom prst="rect">
            <a:avLst/>
          </a:prstGeom>
          <a:ln w="0">
            <a:noFill/>
          </a:ln>
        </p:spPr>
      </p:pic>
      <p:sp>
        <p:nvSpPr>
          <p:cNvPr id="313" name="TextBox 58"/>
          <p:cNvSpPr/>
          <p:nvPr/>
        </p:nvSpPr>
        <p:spPr>
          <a:xfrm>
            <a:off x="0" y="647712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r. Robert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56" descr="T:\elizabeth and alysa\4096251250_01a06efb56[1].jpg"/>
          <p:cNvPicPr/>
          <p:nvPr/>
        </p:nvPicPr>
        <p:blipFill>
          <a:blip r:embed="rId19"/>
          <a:stretch/>
        </p:blipFill>
        <p:spPr>
          <a:xfrm>
            <a:off x="1066680" y="6095880"/>
            <a:ext cx="325440" cy="533520"/>
          </a:xfrm>
          <a:prstGeom prst="rect">
            <a:avLst/>
          </a:prstGeom>
          <a:ln w="0">
            <a:noFill/>
          </a:ln>
        </p:spPr>
      </p:pic>
      <p:sp>
        <p:nvSpPr>
          <p:cNvPr id="315" name="TextBox 60"/>
          <p:cNvSpPr/>
          <p:nvPr/>
        </p:nvSpPr>
        <p:spPr>
          <a:xfrm>
            <a:off x="914400" y="6688080"/>
            <a:ext cx="114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dy Seymou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Box 61"/>
          <p:cNvSpPr/>
          <p:nvPr/>
        </p:nvSpPr>
        <p:spPr>
          <a:xfrm>
            <a:off x="762120" y="50292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132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Box 62"/>
          <p:cNvSpPr/>
          <p:nvPr/>
        </p:nvSpPr>
        <p:spPr>
          <a:xfrm>
            <a:off x="2438280" y="1905120"/>
            <a:ext cx="419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oday I went to visit my aunt 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Box 58"/>
          <p:cNvSpPr/>
          <p:nvPr/>
        </p:nvSpPr>
        <p:spPr>
          <a:xfrm>
            <a:off x="2971800" y="11430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Rectangle 5" descr=""/>
          <p:cNvPicPr/>
          <p:nvPr/>
        </p:nvPicPr>
        <p:blipFill>
          <a:blip r:embed="rId1"/>
          <a:stretch/>
        </p:blipFill>
        <p:spPr>
          <a:xfrm>
            <a:off x="-6480" y="-12600"/>
            <a:ext cx="1384560" cy="40320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7524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"/>
              </a:rPr>
              <a:t>Elihu Lockton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 with his and two slaves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8">
            <a:hlinkClick r:id="rId2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9">
            <a:hlinkClick r:id="rId3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"/>
              </a:rPr>
              <a:t>Elihu Lockt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Elihu Lockton  (5)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Elihu Lockton a messag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21">
            <a:hlinkClick r:id="rId4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23">
            <a:hlinkClick r:id="rId5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30"/>
          <p:cNvSpPr/>
          <p:nvPr/>
        </p:nvSpPr>
        <p:spPr>
          <a:xfrm>
            <a:off x="152280" y="3581280"/>
            <a:ext cx="16002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yalists are #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 23, 174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liam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esta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ndon, Eng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32"/>
          <p:cNvSpPr/>
          <p:nvPr/>
        </p:nvSpPr>
        <p:spPr>
          <a:xfrm>
            <a:off x="152280" y="51814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hotos (2 albums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34"/>
          <p:cNvSpPr/>
          <p:nvPr/>
        </p:nvSpPr>
        <p:spPr>
          <a:xfrm>
            <a:off x="2209680" y="1752480"/>
            <a:ext cx="312444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yalists are #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</a:t>
            </a:r>
            <a:r>
              <a:rPr b="0" lang="en-US" sz="1000" spc="-1" strike="noStrike">
                <a:solidFill>
                  <a:srgbClr val="959ebd"/>
                </a:solidFill>
                <a:latin typeface="Arial"/>
              </a:rPr>
              <a:t>: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 23, 174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London, Eng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ried to </a:t>
            </a:r>
            <a:r>
              <a:rPr b="0" lang="en-US" sz="1000" spc="-1" strike="noStrike">
                <a:solidFill>
                  <a:srgbClr val="3333ff"/>
                </a:solidFill>
                <a:latin typeface="Arial"/>
              </a:rPr>
              <a:t>Anne Lockt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Parliam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esta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35"/>
          <p:cNvSpPr/>
          <p:nvPr/>
        </p:nvSpPr>
        <p:spPr>
          <a:xfrm>
            <a:off x="2133720" y="3200400"/>
            <a:ext cx="44956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etings, time with partners, spends time with wif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reading, being in charge,  being protectiv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foo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ta, turtle soup, brea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drink: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water, apple juice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37"/>
          <p:cNvSpPr/>
          <p:nvPr/>
        </p:nvSpPr>
        <p:spPr>
          <a:xfrm>
            <a:off x="762120" y="5486400"/>
            <a:ext cx="83808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af0a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838080" y="6172200"/>
            <a:ext cx="83844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af0a"/>
                </a:solidFill>
                <a:latin typeface="Arial"/>
              </a:rPr>
              <a:t>The lockotn’s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 hours ag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43"/>
          <p:cNvSpPr/>
          <p:nvPr/>
        </p:nvSpPr>
        <p:spPr>
          <a:xfrm>
            <a:off x="2133720" y="5029200"/>
            <a:ext cx="44956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384 Rhode Island, New  York103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                 1917-979-973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Picture 36" descr="http://t2.gstatic.com/images?q=tbn:ANd9GcT5eR33xi-_jN6jsdKsi94z94-6dQOdyZO5eRbrokXSGSmcY2qZ-Q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6095880"/>
            <a:ext cx="709560" cy="5335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5" descr="See full size im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380880"/>
            <a:ext cx="1314360" cy="9907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5" descr="See full size image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28600" y="5486400"/>
            <a:ext cx="5526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609480" y="4952880"/>
            <a:ext cx="289584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Rectangle 5" descr=""/>
          <p:cNvPicPr/>
          <p:nvPr/>
        </p:nvPicPr>
        <p:blipFill>
          <a:blip r:embed="rId1"/>
          <a:stretch/>
        </p:blipFill>
        <p:spPr>
          <a:xfrm>
            <a:off x="-6480" y="-12600"/>
            <a:ext cx="1384560" cy="40320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hu Lock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4">
            <a:hlinkClick r:id="rId2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5">
            <a:hlinkClick r:id="rId3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18"/>
          <p:cNvSpPr/>
          <p:nvPr/>
        </p:nvSpPr>
        <p:spPr>
          <a:xfrm>
            <a:off x="152280" y="1828800"/>
            <a:ext cx="746784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"/>
              </a:rPr>
              <a:t>Photos of Locktons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33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photo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Lockton’s hous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 photo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phot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"/>
              </a:rPr>
              <a:t>Elihu Locktons</a:t>
            </a:r>
            <a:r>
              <a:rPr b="0" lang="en-US" sz="10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with his wife and two slaves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31"/>
          <p:cNvSpPr/>
          <p:nvPr/>
        </p:nvSpPr>
        <p:spPr>
          <a:xfrm>
            <a:off x="685800" y="472428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"/>
              </a:rPr>
              <a:t>Lockton’s Albums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 Photo albums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Picture 100" descr=""/>
          <p:cNvPicPr/>
          <p:nvPr/>
        </p:nvPicPr>
        <p:blipFill>
          <a:blip r:embed="rId4"/>
          <a:stretch/>
        </p:blipFill>
        <p:spPr>
          <a:xfrm>
            <a:off x="3581280" y="495288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9" descr="T:\elizabeth and alysa\images[1].jpg"/>
          <p:cNvPicPr/>
          <p:nvPr/>
        </p:nvPicPr>
        <p:blipFill>
          <a:blip r:embed="rId5"/>
          <a:stretch/>
        </p:blipFill>
        <p:spPr>
          <a:xfrm>
            <a:off x="685800" y="2057400"/>
            <a:ext cx="1305000" cy="981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3" descr="T:\elizabeth and alysa\14CCA28Q90HCAVJX29XCAXWZHJDCAVDH0GCCAZTHZ7ZCAI4AKDRCAO91KT0CA7SR4A2CAZI253JCAAL6Z55CAXKLNHFCALB3X0YCAJJSD2BCA010KMECAVBP30FCAUCA455CA7XAF5JCA4MEC9UCA5O3ZCQ.jpg"/>
          <p:cNvPicPr/>
          <p:nvPr/>
        </p:nvPicPr>
        <p:blipFill>
          <a:blip r:embed="rId6"/>
          <a:stretch/>
        </p:blipFill>
        <p:spPr>
          <a:xfrm>
            <a:off x="2209680" y="205740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6" descr="http://t2.gstatic.com/images?q=tbn:ANd9GcT5eR33xi-_jN6jsdKsi94z94-6dQOdyZO5eRbrokXSGSmcY2qZ-Q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133720" y="5181480"/>
            <a:ext cx="1216080" cy="9144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5" descr="See full size imag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380880"/>
            <a:ext cx="933480" cy="1067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5" descr="See full size image"/>
          <p:cNvPicPr/>
          <p:nvPr/>
        </p:nvPicPr>
        <p:blipFill>
          <a:blip r:embed="rId11"/>
          <a:stretch/>
        </p:blipFill>
        <p:spPr>
          <a:xfrm>
            <a:off x="3657600" y="1981080"/>
            <a:ext cx="933480" cy="10670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5" descr="See full size image"/>
          <p:cNvPicPr/>
          <p:nvPr/>
        </p:nvPicPr>
        <p:blipFill>
          <a:blip r:embed="rId12"/>
          <a:stretch/>
        </p:blipFill>
        <p:spPr>
          <a:xfrm>
            <a:off x="838080" y="5105520"/>
            <a:ext cx="933480" cy="10666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0" descr="T:\elizabeth and alysa\images[1].jpg"/>
          <p:cNvPicPr/>
          <p:nvPr/>
        </p:nvPicPr>
        <p:blipFill>
          <a:blip r:embed="rId13"/>
          <a:stretch/>
        </p:blipFill>
        <p:spPr>
          <a:xfrm>
            <a:off x="2133720" y="3144960"/>
            <a:ext cx="914400" cy="12459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6" descr="T:\elizabeth and alysa\4096251250_01a06efb56[1].jpg"/>
          <p:cNvPicPr/>
          <p:nvPr/>
        </p:nvPicPr>
        <p:blipFill>
          <a:blip r:embed="rId14"/>
          <a:stretch/>
        </p:blipFill>
        <p:spPr>
          <a:xfrm>
            <a:off x="838080" y="3124080"/>
            <a:ext cx="630360" cy="1295640"/>
          </a:xfrm>
          <a:prstGeom prst="rect">
            <a:avLst/>
          </a:prstGeom>
          <a:ln w="0">
            <a:noFill/>
          </a:ln>
        </p:spPr>
      </p:pic>
      <p:sp>
        <p:nvSpPr>
          <p:cNvPr id="392" name="TextBox 33"/>
          <p:cNvSpPr/>
          <p:nvPr/>
        </p:nvSpPr>
        <p:spPr>
          <a:xfrm>
            <a:off x="1752480" y="114300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Student</cp:lastModifiedBy>
  <dcterms:modified xsi:type="dcterms:W3CDTF">2011-05-04T12:29:15Z</dcterms:modified>
  <cp:revision>41</cp:revision>
  <dc:subject/>
  <dc:title>Profile</dc:title>
</cp:coreProperties>
</file>